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  <p:custShowLst>
    <p:custShow name="Chapter" id="0">
      <p:sldLst>
        <p:sld r:id="rId5"/>
      </p:sldLst>
    </p:custShow>
    <p:custShow name="ELI Sect 1" id="1">
      <p:sldLst>
        <p:sld r:id="rId5"/>
      </p:sldLst>
    </p:custShow>
    <p:custShow name="ELI STP" id="2">
      <p:sldLst>
        <p:sld r:id="rId7"/>
        <p:sld r:id="rId9"/>
        <p:sld r:id="rId10"/>
        <p:sld r:id="rId11"/>
        <p:sld r:id="rId12"/>
        <p:sld r:id="rId14"/>
        <p:sld r:id="rId3"/>
        <p:sld r:id="rId8"/>
      </p:sldLst>
    </p:custShow>
    <p:custShow name="Image/Math" id="3">
      <p:sldLst>
        <p:sld r:id="rId13"/>
        <p:sld r:id="rId15"/>
        <p:sld r:id="rId4"/>
      </p:sldLst>
    </p:custShow>
    <p:custShow name="Bellringers" id="4">
      <p:sldLst>
        <p:sld r:id="rId5"/>
      </p:sldLst>
    </p:custShow>
    <p:custShow name="Chapter Presentation" id="5">
      <p:sldLst>
        <p:sld r:id="rId5"/>
        <p:sld r:id="rId6"/>
        <p:sld r:id="rId7"/>
        <p:sld r:id="rId9"/>
        <p:sld r:id="rId10"/>
        <p:sld r:id="rId11"/>
        <p:sld r:id="rId12"/>
        <p:sld r:id="rId14"/>
        <p:sld r:id="rId8"/>
        <p:sld r:id="rId3"/>
        <p:sld r:id="rId13"/>
        <p:sld r:id="rId15"/>
        <p:sld r:id="rId4"/>
      </p:sldLst>
    </p:custShow>
    <p:custShow name="Section 1" id="6">
      <p:sldLst>
        <p:sld r:id="rId5"/>
        <p:sld r:id="rId6"/>
        <p:sld r:id="rId7"/>
        <p:sld r:id="rId9"/>
        <p:sld r:id="rId10"/>
        <p:sld r:id="rId11"/>
        <p:sld r:id="rId12"/>
        <p:sld r:id="rId14"/>
      </p:sldLst>
    </p:custShow>
    <p:custShow name="Section 2" id="7">
      <p:sldLst>
        <p:sld r:id="rId8"/>
        <p:sld r:id="rId3"/>
        <p:sld r:id="rId13"/>
        <p:sld r:id="rId15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PowerPresBackgroun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2">
            <a:hlinkClick r:id="" action="ppaction://hlinkshowjump?jump=previousslide"/>
          </p:cNvPr>
          <p:cNvSpPr/>
          <p:nvPr/>
        </p:nvSpPr>
        <p:spPr>
          <a:xfrm>
            <a:off x="4800600" y="6197760"/>
            <a:ext cx="8380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3">
            <a:hlinkClick r:id="" action="ppaction://hlinkshowjump?jump=nextslide"/>
          </p:cNvPr>
          <p:cNvSpPr/>
          <p:nvPr/>
        </p:nvSpPr>
        <p:spPr>
          <a:xfrm>
            <a:off x="5829480" y="6184800"/>
            <a:ext cx="81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>
            <a:hlinkClick r:id="" action="ppaction://hlinkshowjump?jump=firstslide"/>
          </p:cNvPr>
          <p:cNvSpPr/>
          <p:nvPr/>
        </p:nvSpPr>
        <p:spPr>
          <a:xfrm>
            <a:off x="6838920" y="6197760"/>
            <a:ext cx="1066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>
            <a:hlinkClick r:id="" action="ppaction://hlinkshowjump?jump=endshow"/>
          </p:cNvPr>
          <p:cNvSpPr/>
          <p:nvPr/>
        </p:nvSpPr>
        <p:spPr>
          <a:xfrm>
            <a:off x="8045280" y="6191280"/>
            <a:ext cx="831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5"/>
          <p:cNvSpPr/>
          <p:nvPr/>
        </p:nvSpPr>
        <p:spPr>
          <a:xfrm>
            <a:off x="22860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74124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ction 1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hat Is a Biome?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8760" y="149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Cataly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Bio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mes and Vege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mes and Cl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 and Precip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itude and Al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atitude and Altitud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titu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distance north or south from the equator, and is expressed in degre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ltitu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height of an object above a reference point, such as sea level or the Earth’s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mate varies with latitude and altitud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, climate gets colder as latitude and altitude increase. This is why it gets colder as you move further up a moun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creen shot 2012-04-09 at 10.09.19 AM.png"/>
          <p:cNvPicPr/>
          <p:nvPr/>
        </p:nvPicPr>
        <p:blipFill>
          <a:blip r:embed="rId1"/>
          <a:stretch/>
        </p:blipFill>
        <p:spPr>
          <a:xfrm>
            <a:off x="685800" y="57240"/>
            <a:ext cx="7543800" cy="60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atitude and Altitud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latitude and altitude increase, biomes and vegetation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es of tropical rainforests usually grow closer to the equator, while mosses and lichen of the tundra grow closer to the po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mperate region includes biomes such as temperate forests and grasslands, which usually have moderate temperatures and fertile soil that is ideal for agricul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atitude and Altitud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9" name="Picture 3" descr="06_03"/>
          <p:cNvPicPr/>
          <p:nvPr/>
        </p:nvPicPr>
        <p:blipFill>
          <a:blip r:embed="rId1"/>
          <a:stretch/>
        </p:blipFill>
        <p:spPr>
          <a:xfrm>
            <a:off x="9360" y="1219320"/>
            <a:ext cx="913464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Screen shot 2012-04-16 at 10.51.19 AM.png"/>
          <p:cNvPicPr/>
          <p:nvPr/>
        </p:nvPicPr>
        <p:blipFill>
          <a:blip r:embed="rId1"/>
          <a:srcRect l="0" t="9660" r="0" b="0"/>
          <a:stretch/>
        </p:blipFill>
        <p:spPr>
          <a:xfrm>
            <a:off x="0" y="0"/>
            <a:ext cx="4952880" cy="5189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plants describe the name of a bi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emperature and precipitation determine which plants grow in an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latitude and altitude affect which plants grow in an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hat is a Biome?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m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large regions characterized by a specific type of climate and certain types of plant and animal commun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biome is made up of many individual eco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iomes and Veget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mes are described by their vegetation because plants that grow in an area determine the other organisms that can live t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s in a particular biome have characteristics, specialized structures, or adaptations that allow the plants to survive in that bi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daptations include size, shape, and color. For example, plants in the tundra tend to be short because they cannot obtain enough water to grow larg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World’s Major Terrestrial Biom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6" name="Picture 3" descr="Screen shot 2012-04-09 at 10.07.34 AM.png"/>
          <p:cNvPicPr/>
          <p:nvPr/>
        </p:nvPicPr>
        <p:blipFill>
          <a:blip r:embed="rId1"/>
          <a:stretch/>
        </p:blipFill>
        <p:spPr>
          <a:xfrm>
            <a:off x="393840" y="1562040"/>
            <a:ext cx="83563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iomes and Climat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lim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average weather conditions in an area over a long period of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mate is the main factor is determining which plants can grow in a certain area, which in turn defines the bi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 and precipitation are the two most important factors that determine a region’s clim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emperature and Precipit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rganisms are adapted to live within a particular range of temperatures and will not survive at temperatures too far above or below their r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pitation also limits the organisms that can be found in a biome because all organisms need water, and the bigger the animal, the more water it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emperature and Precipit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mes that do not receive enough rainfall to support large trees support communities dominated by small trees, shrubs, and gr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biomes where rainfall is not frequent, the vegetation is mostly cactuses and desert shrubs. In extreme cases, lack of rainfall results in no plants, no matter what the temperature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igher the temperature and precipitation are, the taller and denser the vegetation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llace, Daniel</dc:creator>
  <dc:description/>
  <dc:language>en-US</dc:language>
  <cp:lastModifiedBy>Builder</cp:lastModifiedBy>
  <cp:lastPrinted>2004-02-20T14:12:55Z</cp:lastPrinted>
  <dcterms:modified xsi:type="dcterms:W3CDTF">2015-05-12T18:19:01Z</dcterms:modified>
  <cp:revision>732</cp:revision>
  <dc:subject/>
  <dc:title>No Slide Title</dc:title>
</cp:coreProperties>
</file>